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92320" y="680760"/>
            <a:ext cx="4478400" cy="335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268520"/>
            <a:ext cx="5029200" cy="40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8"/>
          </p:nvPr>
        </p:nvSpPr>
        <p:spPr>
          <a:xfrm>
            <a:off x="-36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9"/>
          </p:nvPr>
        </p:nvSpPr>
        <p:spPr>
          <a:xfrm>
            <a:off x="388584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3B3D-B78C-4F66-9526-2C1D1649D33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584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F40A-E761-4B66-8CB9-F890DD103F5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584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2320" y="669960"/>
            <a:ext cx="4475160" cy="3355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2960" y="4251240"/>
            <a:ext cx="50320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584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3A80-27D2-4CB1-8B8B-475FAFC30B7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584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3760" y="6732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249800"/>
            <a:ext cx="50292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584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05E7-7843-4DEC-AC2E-6AE6CC43FD1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584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2320" y="669960"/>
            <a:ext cx="4475160" cy="3355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2960" y="4251240"/>
            <a:ext cx="50320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8584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304A-98B8-4ED8-B2C5-A53B4EBDCCC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8584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92320" y="681120"/>
            <a:ext cx="4478400" cy="33591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268520"/>
            <a:ext cx="5029200" cy="40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ive personal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-Thank you for co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presenters and 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usekee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remember to fill out the form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you have to leave early visit the booth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92320" y="681120"/>
            <a:ext cx="4478400" cy="33591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268520"/>
            <a:ext cx="5029200" cy="40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ters’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se are the general areas for discu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’ll be helped by representatives of a number of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584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2B65-A256-4D8E-8D63-A393C50B683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5424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584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93760" y="6732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249800"/>
            <a:ext cx="50292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9E7-4328-4DC5-8B23-D6C33F0D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294-F9BB-4AB7-BBF5-C81690A3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EAC-35F8-40BF-AAA8-AC6BFCE9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9D99-D12D-49B2-AB9D-CD123F85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71B7-32FD-42EB-862D-FBBEF3CB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3CB7-D89E-4ADA-B8BA-D597819C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F5F4-2D2E-4A0D-B0A1-7F0E11A7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D0AD-C17A-43C1-9BC6-0444F8C1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D3BD-ED52-4393-A9B6-3CB5AD28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8983-347C-48FE-A70A-8FFB5D3E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8516-5F7D-4327-85D6-34A9DAE4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32D5-9D1E-44CC-8251-1B3ECD9D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298E-3135-4044-82D9-9AA0835C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96E3-08DB-4A1C-BC5D-F2E52D20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E7F4-A20F-4399-A498-5C38DF86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18BB-F781-4D8A-B0C6-71DF425A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3BDE-D2BF-40C6-A5C0-B91FEB8B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D80-3ACE-4F34-9D3B-7B87643C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9C9-BE37-4FC7-81FD-9F4106D9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F490-D932-47E7-BDCD-FA014F94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AEDE-1F12-4DC3-856F-3CAF8716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5C7-1DE9-4A9D-948C-807183D8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BF2-12BE-4982-9B72-A0560B23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7D21-DBAF-453F-B8B5-B249CB20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50840"/>
            <a:chOff x="0" y="4206960"/>
            <a:chExt cx="9166320" cy="285084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99ff33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1440" y="6626160"/>
              <a:ext cx="9132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fefe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9D42-E41E-43C3-AA1A-980A2C79DB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533520"/>
            <a:ext cx="9177480" cy="6524280"/>
            <a:chOff x="0" y="533520"/>
            <a:chExt cx="9177480" cy="6524280"/>
          </a:xfrm>
        </p:grpSpPr>
        <p:sp>
          <p:nvSpPr>
            <p:cNvPr id="70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99ff33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2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1440" y="6626160"/>
              <a:ext cx="9132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959"/>
                  </a:moveTo>
                  <a:arcTo wR="10800" hR="10800" stAng="10749457" swAng="10901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959"/>
                  </a:moveTo>
                  <a:arcTo wR="10800" hR="10800" stAng="10749457" swAng="10901120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4f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4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efe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C6B8-E4C1-4081-97CC-28DB6C153D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Brewer-041109-a-NAA%20short%20version-Committee-diagram.ppt" TargetMode="External"/><Relationship Id="rId2" Type="http://schemas.openxmlformats.org/officeDocument/2006/relationships/hyperlink" Target="file:///../../Brewer-041109-a-NAA%20short%20version-Committee-diagram.ppt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case.info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viationeducation.org/" TargetMode="External"/><Relationship Id="rId2" Type="http://schemas.openxmlformats.org/officeDocument/2006/relationships/hyperlink" Target="http://www.faa.gov/education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iationeducation.org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../WebWhacker4/All/aviationeducation.org/html/memberdetail2.htm" TargetMode="External"/><Relationship Id="rId2" Type="http://schemas.openxmlformats.org/officeDocument/2006/relationships/hyperlink" Target="file:///../../WebWhacker4/All/aviationeducation.org/html/memberdetail22.htm" TargetMode="External"/><Relationship Id="rId3" Type="http://schemas.openxmlformats.org/officeDocument/2006/relationships/hyperlink" Target="file:///../../WebWhacker4/All/nasao.org/index.html" TargetMode="External"/><Relationship Id="rId4" Type="http://schemas.openxmlformats.org/officeDocument/2006/relationships/hyperlink" Target="file:///../../WebWhacker4/All/aviationeducation.org/html/memberdetail21.htm" TargetMode="External"/><Relationship Id="rId5" Type="http://schemas.openxmlformats.org/officeDocument/2006/relationships/hyperlink" Target="file:///../../WebWhacker4/All/capnhq.gov/index.html" TargetMode="External"/><Relationship Id="rId6" Type="http://schemas.openxmlformats.org/officeDocument/2006/relationships/hyperlink" Target="http://www.careersinaviation.org/" TargetMode="External"/><Relationship Id="rId7" Type="http://schemas.openxmlformats.org/officeDocument/2006/relationships/hyperlink" Target="file:///../../catherding.mpeg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WebWhacker4/All/faa.gov/education/index.cfm.htm" TargetMode="External"/><Relationship Id="rId2" Type="http://schemas.openxmlformats.org/officeDocument/2006/relationships/hyperlink" Target="file:///../../WebWhacker4/All/faa.gov/education/index.cfm.h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CAE develops a focus ...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an a national dialogue on the future of aviation and space educ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A Brewer Forum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Educational Surv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vailable at    www.aviationeducation.org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nd          www.wolf-aviation.org</a:t>
            </a:r>
            <a:br>
              <a:rPr sz="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achers telling us what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and their students n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ideas and partnership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you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deas !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: aviation education provides a unique opportunity to inspire while educati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452680" cy="3124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22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NCAE / NAA Education Committe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140976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primary focus: </a:t>
            </a:r>
            <a:br>
              <a:rPr sz="2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ucture and Support the National Coalition for Aviation Educa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Plan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W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oups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1"/>
              </a:rPr>
              <a:t>link to P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00520" y="3124080"/>
            <a:ext cx="2614680" cy="2092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771640" y="1738440"/>
          <a:ext cx="3595680" cy="35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738440"/>
                    <a:ext cx="3595680" cy="35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”= C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2209680"/>
            <a:ext cx="2362320" cy="9169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mal &amp; Informal Education: Teacher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, &amp; Famil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33960" y="4753080"/>
            <a:ext cx="251460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iation Interest &am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ship Grou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95480" y="1220760"/>
            <a:ext cx="2704320" cy="368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artment of Edu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5840" y="2362320"/>
            <a:ext cx="1931760" cy="11912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iation Industr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lines, Union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erospace Fir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86040" y="4491000"/>
            <a:ext cx="140904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ess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e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67160" y="1219320"/>
            <a:ext cx="2197080" cy="368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General Publi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3480" y="1676520"/>
            <a:ext cx="283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grate av ed into progra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lect useful materi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7440" y="3733920"/>
            <a:ext cx="250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v ed as a tool f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imulating career 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3124080"/>
            <a:ext cx="30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cilitate development and delivery of better and more relevant materi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28760" y="524844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cGraw-Hi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2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9440" y="5129280"/>
            <a:ext cx="31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ted Communication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affecting ALL constituenc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880" y="5867280"/>
            <a:ext cx="24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wspapers in Edu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4400" y="2313000"/>
            <a:ext cx="21495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ore Effor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Focus, Support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oordination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ommunication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nd Public Outr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63160" y="3962520"/>
            <a:ext cx="203076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iation agenc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affili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6080" y="1600200"/>
            <a:ext cx="243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ordinated education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treach effor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mpaign for Aviation and Space Edu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4520" y="3639960"/>
            <a:ext cx="2847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AMPAIGN FOR AVI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AND SPACE EDU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14720" y="462456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CAE webs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5562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CASE 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895480"/>
            <a:ext cx="3962160" cy="6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2911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NCASE 2006 &amp; 08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3040" y="3574800"/>
            <a:ext cx="3525840" cy="191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Aviation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ce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ncase.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sponsor: NC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09920" y="393840"/>
            <a:ext cx="3843360" cy="5092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366560" y="5535720"/>
            <a:ext cx="1708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hoto Show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Use Irfan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50160" y="5638680"/>
            <a:ext cx="216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lick for Webs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800" y="533520"/>
            <a:ext cx="3962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CASE 2005 &amp; 0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6800" y="1247760"/>
            <a:ext cx="352584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ship Con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Aviation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ce Edu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lcase.inf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51444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Q  &amp;  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28720"/>
            <a:ext cx="77724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s, Question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s for Information:</a:t>
            </a:r>
            <a:br>
              <a:rPr sz="3200"/>
            </a:br>
            <a:br>
              <a:rPr sz="1200"/>
            </a:br>
            <a:br>
              <a:rPr sz="1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CA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Arial"/>
                <a:hlinkClick r:id="rId1"/>
              </a:rPr>
              <a:t>www.aviationeducation.or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A Website:         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Arial"/>
                <a:hlinkClick r:id="rId2"/>
              </a:rPr>
              <a:t>www.faa.gov/educ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lf Aviation Fund:  www.wolf-aviation.o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162920" y="762120"/>
            <a:ext cx="742680" cy="990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Handwriting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1371600" cy="8254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568600" y="2025720"/>
            <a:ext cx="5334120" cy="3525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tional Coalition for Aviation Education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sources, Outreach, and Partnershi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66640" y="297180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Conference 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iation and Space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 Murrow, NCAE Director,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lia Bauer, FAA National Aviation Education Program Manager, Retired!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2681280" cy="154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438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day’s Discussion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398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CAE - a gateway to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Coalition for Aviation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e of Partnerships &amp; Mutual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resources and NCAE web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ap-up -Q &amp;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ational Coalition for Aviation Educ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4000"/>
          </a:bodyPr>
          <a:p>
            <a:pPr marL="185040" indent="-18504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than fifty listed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85040" indent="-1850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l Product: a Printed Gu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85040" indent="-185040"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: NCAE website first sponsored by National Aeronautics Association (NAA)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 u="sng">
                <a:solidFill>
                  <a:srgbClr val="ffff66"/>
                </a:solidFill>
                <a:uFillTx/>
                <a:latin typeface="Arial"/>
                <a:hlinkClick r:id="rId1"/>
              </a:rPr>
              <a:t>www.aviationeducation.or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185040" indent="-18504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ed for a National Vision &amp;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85040" indent="-18504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CASE and NCASE confer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NCAE Guid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5435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 of NCAE Grou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04760" y="1294920"/>
            <a:ext cx="7391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Arial"/>
                <a:hlinkClick r:id="rId1"/>
              </a:rPr>
              <a:t>4-H Aerospace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Arial"/>
                <a:hlinkClick r:id="rId2"/>
              </a:rPr>
              <a:t>E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A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Arial"/>
                <a:hlinkClick r:id="rId3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O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Arial"/>
                <a:hlinkClick r:id="rId4"/>
              </a:rPr>
              <a:t>Civil Air Patrol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66"/>
                </a:solidFill>
                <a:uFillTx/>
                <a:latin typeface="Arial"/>
                <a:hlinkClick r:id="rId6"/>
              </a:rPr>
              <a:t>Careers in Av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lf Aviation Fund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nt Project Example: AVSCHOLARS.CO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:    LESSONS LEAR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Others !!!!    </a:t>
            </a:r>
            <a:r>
              <a:rPr b="0" lang="en-US" sz="1600" spc="-1" strike="noStrike" u="sng">
                <a:solidFill>
                  <a:srgbClr val="ffff66"/>
                </a:solidFill>
                <a:uFillTx/>
                <a:latin typeface="Arial"/>
                <a:hlinkClick r:id="rId7"/>
              </a:rPr>
              <a:t>[clip]  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3505320"/>
            <a:ext cx="73152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 u="sng">
                <a:solidFill>
                  <a:srgbClr val="ffff66"/>
                </a:solidFill>
                <a:uFillTx/>
                <a:latin typeface="Arial"/>
                <a:hlinkClick r:id="rId1"/>
              </a:rPr>
              <a:t>www.faa.gov</a:t>
            </a:r>
            <a:r>
              <a:rPr b="0" lang="en-US" sz="3600" spc="-1" strike="noStrike" u="sng">
                <a:solidFill>
                  <a:srgbClr val="ffff66"/>
                </a:solidFill>
                <a:uFillTx/>
                <a:latin typeface="Arial"/>
                <a:hlinkClick r:id="rId2"/>
              </a:rPr>
              <a:t>/edu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7524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A Website -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ateway to resour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A Support for Aviation Education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 Aviation Education Program Manag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nteers within FA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rs and Spea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ons - Events &amp; Initia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ny groups - many progra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879480"/>
            <a:ext cx="3048120" cy="54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oundation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ero Club Foundation of Washingto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erospace Education Alli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erospace Education Foundatio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areers in Av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AA Aviation Found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ashington Times Newspapers in Education Program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athen Found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olf Aviation Fu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overnm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4-H Aerospace Education Progr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irmobile - Science Museum of Virgin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viation Council of Pennsylvan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ederal Aviation Administ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ational Aeronautics and Space Administ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ational Association of State Aviation Officia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aval Sea Cade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. S. Centennial of Flight Commissio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.S. Department of Edu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Virginia Department of Av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est Chester University- Helicopter Museu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ilot/Fligh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cademy of Model Aeronaut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ircraft Owners &amp; Pilots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Be A Pil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ivil Air Patr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ichard Klein &amp; Associ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oaring Society of Amer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he Ninety-Nines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.S. Ultralight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omen In Aviation, Intern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81680" y="882720"/>
            <a:ext cx="3552840" cy="52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Labor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ir Line Pilots Association, Intern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ternational Association of Machinists and Aerospace Work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chool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hicago Youth in Aviation, Inc.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aniel Webster Colle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Magnet Schools of America, Inc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niversity Aviation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rade Association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erospace Industries Associatio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HS International - The Vertical Flight Socie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ir Traffic Control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ir Transport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ircraft Electronics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irports Council Intl-North Amer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merican Association of Airport Executiv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merican Institute of Aeronautics &amp; Astronaut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viation Distributors &amp; Manufacturers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General Aviation Manufacturers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elicopter Association Intern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nternational Society of Aviation Maintenance Professiona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Ken Cook Compan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ational Aeronautic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ational Agricultural Aviation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ational Air Carrier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ational Air Transportation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ational Aircraft Resale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National Business Aviation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rofessional Aviation Maintenance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Regional Airline Associ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23Z</dcterms:created>
  <dc:creator>wrm</dc:creator>
  <dc:description/>
  <dc:language>en-US</dc:language>
  <cp:lastModifiedBy>William Murrow</cp:lastModifiedBy>
  <cp:lastPrinted>2002-04-05T18:53:30Z</cp:lastPrinted>
  <dcterms:modified xsi:type="dcterms:W3CDTF">2009-03-31T19:35:56Z</dcterms:modified>
  <cp:revision>256</cp:revision>
  <dc:subject/>
  <dc:title> NCAE Resources for Aviation Education</dc:title>
</cp:coreProperties>
</file>